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1AC7D-F8A0-4C71-9C0F-233C74F4D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9483-F1AA-45C1-8635-2FF9E4C8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43A18-DF71-4370-A4FA-552CA2737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20C7E-DF2D-442F-9C7C-2F11D9D91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ABC6B-BF72-4690-B672-0ADE14494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1FCE2-AC55-4DB4-8AB7-17299A776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CAE60-F0BD-4D66-AA1B-B156D8BE1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A006F-B93F-4F06-B656-F00188E5D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88CEF-DBB2-42E4-AF73-15B83DA24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B9163-A54D-4642-9B3E-E5B565E7D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07134-975A-40A4-971E-C5C62936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15530-D30E-4AAB-8DB9-4F7EF5D01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861D2-7B73-4CEB-948D-51687B296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0C318-98DA-41B1-8B13-BED4E7CC5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6470F-00A5-4B45-9900-16CA4DC2B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2C0BB-C573-4681-A185-D6ED4D3BF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A5851-520C-48CD-BC55-C8194A9D2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6B43B-DD1A-447F-8ECA-9C18A049E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1929D-30FD-4872-B304-6C21B63D5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38660-A890-494F-A90D-586F76B6F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A644F-9FA3-4654-B67D-AFA1AEC7C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7E13D-D3F9-4F7F-B33E-2552D2D24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2E93-60C8-49ED-A861-197AAC211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52925-522C-410F-8F7F-CF119D1DC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DA98-B833-4299-9574-7ED35C91CB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656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FEB5-78F7-4AC7-AC1F-72C7159EB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Caslon Pro SmBd"/>
              </a:rPr>
              <a:t>Review Slides</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Caslon Pro SmBd"/>
              </a:rPr>
              <a:t>Colonial Ame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Caslon Pro SmBd"/>
              </a:rPr>
              <a:t>Challenges &amp; Successes Upon Arriving in America</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Caslon Pro SmBd"/>
              </a:rPr>
              <a:t>Challenges:</a:t>
            </a:r>
            <a:endParaRPr b="0" lang="en-US" sz="2400" spc="-1" strike="noStrike">
              <a:solidFill>
                <a:srgbClr val="000000"/>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Caslon Pro SmBd"/>
                <a:ea typeface="Times New Roman"/>
              </a:rPr>
              <a:t>D</a:t>
            </a:r>
            <a:r>
              <a:rPr b="0" lang="en-US" sz="2400" spc="-1" strike="noStrike">
                <a:solidFill>
                  <a:srgbClr val="000000"/>
                </a:solidFill>
                <a:latin typeface="Adobe Caslon Pro SmBd"/>
              </a:rPr>
              <a:t>eath and disease to natives</a:t>
            </a:r>
            <a:endParaRPr b="0" lang="en-US" sz="2400" spc="-1" strike="noStrike">
              <a:solidFill>
                <a:srgbClr val="000000"/>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Caslon Pro SmBd"/>
              </a:rPr>
              <a:t>GENTLEMEN PROBLEM – men only wanted gold, profit, riches</a:t>
            </a:r>
            <a:endParaRPr b="0" lang="en-US" sz="2400" spc="-1" strike="noStrike">
              <a:solidFill>
                <a:srgbClr val="000000"/>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Caslon Pro SmBd"/>
              </a:rPr>
              <a:t>Successes:</a:t>
            </a:r>
            <a:endParaRPr b="0" lang="en-US" sz="2400" spc="-1" strike="noStrike">
              <a:solidFill>
                <a:srgbClr val="000000"/>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Caslon Pro SmBd"/>
              </a:rPr>
              <a:t>	</a:t>
            </a:r>
            <a:r>
              <a:rPr b="0" lang="en-US" sz="2400" spc="-1" strike="noStrike">
                <a:solidFill>
                  <a:srgbClr val="000000"/>
                </a:solidFill>
                <a:latin typeface="Adobe Caslon Pro SmBd"/>
              </a:rPr>
              <a:t>“</a:t>
            </a:r>
            <a:r>
              <a:rPr b="0" lang="en-US" sz="2400" spc="-1" strike="noStrike">
                <a:solidFill>
                  <a:srgbClr val="000000"/>
                </a:solidFill>
                <a:latin typeface="Adobe Caslon Pro SmBd"/>
              </a:rPr>
              <a:t>H</a:t>
            </a:r>
            <a:r>
              <a:rPr b="0" lang="en-US" sz="2400" spc="-1" strike="noStrike">
                <a:solidFill>
                  <a:srgbClr val="000000"/>
                </a:solidFill>
                <a:latin typeface="Adobe Caslon Pro SmBd"/>
              </a:rPr>
              <a:t>e</a:t>
            </a:r>
            <a:r>
              <a:rPr b="0" lang="en-US" sz="2400" spc="-1" strike="noStrike">
                <a:solidFill>
                  <a:srgbClr val="000000"/>
                </a:solidFill>
                <a:latin typeface="Adobe Caslon Pro SmBd"/>
              </a:rPr>
              <a:t> who does not work shall not eat” -John Smith </a:t>
            </a:r>
            <a:r>
              <a:rPr b="0" lang="en-US" sz="2400" spc="-1" strike="noStrike" u="sng">
                <a:solidFill>
                  <a:srgbClr val="000000"/>
                </a:solidFill>
                <a:uFillTx/>
                <a:latin typeface="Adobe Caslon Pro SmBd"/>
              </a:rPr>
              <a:t>CAPITALISM</a:t>
            </a:r>
            <a:endParaRPr b="0" lang="en-US" sz="2400" spc="-1" strike="noStrike">
              <a:solidFill>
                <a:srgbClr val="000000"/>
              </a:solidFill>
              <a:latin typeface="Arial"/>
            </a:endParaRPr>
          </a:p>
          <a:p>
            <a:pPr lvl="3" marL="1407960" indent="-2008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Caslon Pro SmBd"/>
              </a:rPr>
              <a:t>capitalism – cycle of interdependency </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Caslon Pro SmBd"/>
              </a:rPr>
              <a:t>Tobacco</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Caslon Pro SmBd"/>
              </a:rPr>
              <a:t>House of Burgesses – </a:t>
            </a:r>
            <a:r>
              <a:rPr b="0" lang="en-US" sz="2400" spc="-1" strike="noStrike">
                <a:solidFill>
                  <a:srgbClr val="000000"/>
                </a:solidFill>
                <a:latin typeface="Adobe Caslon Pro SmBd"/>
              </a:rPr>
              <a:t>people governed, representative government. Early form of American democracy </a:t>
            </a:r>
            <a:endParaRPr b="0" lang="en-US" sz="2400" spc="-1" strike="noStrike">
              <a:solidFill>
                <a:srgbClr val="000000"/>
              </a:solidFill>
              <a:latin typeface="Arial"/>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80520"/>
            <a:ext cx="6705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dobe Caslon Pro SmBd"/>
              </a:rPr>
              <a:t>Jamestown vs. Plymouth</a:t>
            </a:r>
            <a:endParaRPr b="0" lang="en-US" sz="3000" spc="-1" strike="noStrike">
              <a:solidFill>
                <a:srgbClr val="000000"/>
              </a:solidFill>
              <a:latin typeface="Arial"/>
            </a:endParaRPr>
          </a:p>
        </p:txBody>
      </p:sp>
      <p:sp>
        <p:nvSpPr>
          <p:cNvPr id="89"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fontScale="66000"/>
          </a:bodyPr>
          <a:p>
            <a:pPr marL="226080" indent="-226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Jamestown</a:t>
            </a:r>
            <a:endParaRPr b="0" lang="en-US" sz="1800" spc="-1" strike="noStrike">
              <a:solidFill>
                <a:srgbClr val="000000"/>
              </a:solidFill>
              <a:latin typeface="Arial"/>
            </a:endParaRPr>
          </a:p>
          <a:p>
            <a:pPr lvl="1" marL="490320" indent="-1886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dobe Caslon Pro SmBd"/>
              </a:rPr>
              <a:t>Economic Prosperity and wealth/gold</a:t>
            </a:r>
            <a:endParaRPr b="0" lang="en-US" sz="1800" spc="-1" strike="noStrike">
              <a:solidFill>
                <a:srgbClr val="000000"/>
              </a:solidFill>
              <a:latin typeface="Arial"/>
            </a:endParaRPr>
          </a:p>
          <a:p>
            <a:pPr lvl="1" marL="490320" indent="-1886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dobe Caslon Pro SmBd"/>
              </a:rPr>
              <a:t>John Smith took control of gov. -”no work, no eat”</a:t>
            </a:r>
            <a:endParaRPr b="0" lang="en-US" sz="1800" spc="-1" strike="noStrike">
              <a:solidFill>
                <a:srgbClr val="000000"/>
              </a:solidFill>
              <a:latin typeface="Arial"/>
            </a:endParaRPr>
          </a:p>
          <a:p>
            <a:pPr lvl="1" marL="490320" indent="-1886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dobe Caslon Pro SmBd"/>
              </a:rPr>
              <a:t>tobacco</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Laziness</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Manuel labor</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Depended on Natives for food</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Disease </a:t>
            </a:r>
            <a:endParaRPr b="0" lang="en-US" sz="1800" spc="-1" strike="noStrike">
              <a:solidFill>
                <a:srgbClr val="000000"/>
              </a:solidFill>
              <a:latin typeface="Arial"/>
            </a:endParaRPr>
          </a:p>
          <a:p>
            <a:pPr marL="226080" indent="-226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Plymouth</a:t>
            </a:r>
            <a:endParaRPr b="0" lang="en-US" sz="1800" spc="-1" strike="noStrike">
              <a:solidFill>
                <a:srgbClr val="000000"/>
              </a:solidFill>
              <a:latin typeface="Arial"/>
            </a:endParaRPr>
          </a:p>
          <a:p>
            <a:pPr lvl="1" marL="490320" indent="-1886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dobe Caslon Pro SmBd"/>
              </a:rPr>
              <a:t>Religious Freedom</a:t>
            </a:r>
            <a:endParaRPr b="0" lang="en-US" sz="1800" spc="-1" strike="noStrike">
              <a:solidFill>
                <a:srgbClr val="000000"/>
              </a:solidFill>
              <a:latin typeface="Arial"/>
            </a:endParaRPr>
          </a:p>
          <a:p>
            <a:pPr lvl="1" marL="490320" indent="-1886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dobe Caslon Pro SmBd"/>
              </a:rPr>
              <a:t>Mayflower compact</a:t>
            </a:r>
            <a:endParaRPr b="0" lang="en-US" sz="1800" spc="-1" strike="noStrike">
              <a:solidFill>
                <a:srgbClr val="000000"/>
              </a:solidFill>
              <a:latin typeface="Arial"/>
            </a:endParaRPr>
          </a:p>
          <a:p>
            <a:pPr lvl="1" marL="490320" indent="-1886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dobe Caslon Pro SmBd"/>
              </a:rPr>
              <a:t>Grow corn -big success</a:t>
            </a:r>
            <a:endParaRPr b="0" lang="en-US" sz="1800" spc="-1" strike="noStrike">
              <a:solidFill>
                <a:srgbClr val="000000"/>
              </a:solidFill>
              <a:latin typeface="Arial"/>
            </a:endParaRPr>
          </a:p>
          <a:p>
            <a:pPr lvl="1" marL="490320" indent="-1886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dobe Caslon Pro SmBd"/>
              </a:rPr>
              <a:t>Cooperation of Natives</a:t>
            </a:r>
            <a:endParaRPr b="0" lang="en-US" sz="1800" spc="-1" strike="noStrike">
              <a:solidFill>
                <a:srgbClr val="000000"/>
              </a:solidFill>
              <a:latin typeface="Arial"/>
            </a:endParaRPr>
          </a:p>
          <a:p>
            <a:pPr lvl="1" marL="490320" indent="-1886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dobe Caslon Pro SmBd"/>
              </a:rPr>
              <a:t>William brackford and Michael Standish</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Little economic prosperity</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Rebelling against church</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Arrived in winter</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54% died in winter</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Growing crops (early attempts) failed</a:t>
            </a:r>
            <a:endParaRPr b="0" lang="en-US" sz="1800" spc="-1" strike="noStrike">
              <a:solidFill>
                <a:srgbClr val="000000"/>
              </a:solidFill>
              <a:latin typeface="Arial"/>
            </a:endParaRPr>
          </a:p>
          <a:p>
            <a:pPr lvl="1" marL="490320" indent="-188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Caslon Pro SmBd"/>
              </a:rPr>
              <a:t>Growing crops taught by Squanto</a:t>
            </a:r>
            <a:endParaRPr b="0" lang="en-US" sz="1800" spc="-1" strike="noStrike">
              <a:solidFill>
                <a:srgbClr val="000000"/>
              </a:solidFill>
              <a:latin typeface="Arial"/>
            </a:endParaRPr>
          </a:p>
        </p:txBody>
      </p:sp>
      <p:sp>
        <p:nvSpPr>
          <p:cNvPr id="90" name=""/>
          <p:cNvSpPr/>
          <p:nvPr/>
        </p:nvSpPr>
        <p:spPr>
          <a:xfrm>
            <a:off x="156240" y="76320"/>
            <a:ext cx="463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Success Black= Difficul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Caslon Pro SmBd"/>
              </a:rPr>
              <a:t>Relationship with Indians</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Caslon Pro SmBd"/>
              </a:rPr>
              <a:t>Indians didn’t believe in private property, but colonists believed in land being bought and sold</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Caslon Pro SmBd"/>
              </a:rPr>
              <a:t>Relationships between them varied according to strength of their settlements, trade links, and conflicts within colonists</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Caslon Pro SmBd"/>
              </a:rPr>
              <a:t>Natives had conflicts with settlers because they weren’t making good use of land, but had cooperation with traders because they are harmonious and have good trading relationships (f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Caslon Pro SmBd"/>
              </a:rPr>
              <a:t>French and Indian War</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Caslon Pro SmBd"/>
              </a:rPr>
              <a:t>Natives wanted to keep colonizers from pushing west</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Caslon Pro SmBd"/>
              </a:rPr>
              <a:t>British wanted farmland and didn’t want French to control the land </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Caslon Pro SmBd"/>
              </a:rPr>
              <a:t>French didn’t want British to control land, didn’t want to settle it</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Caslon Pro SmBd"/>
              </a:rPr>
              <a:t>French viewed Natives as allies, Europeans viewed them as competitors</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Caslon Pro SmBd"/>
              </a:rPr>
              <a:t>As a result of the war the </a:t>
            </a:r>
            <a:r>
              <a:rPr b="0" lang="en-US" sz="2200" spc="-1" strike="noStrike">
                <a:solidFill>
                  <a:srgbClr val="000000"/>
                </a:solidFill>
                <a:latin typeface="Adobe Caslon Pro SmBd"/>
              </a:rPr>
              <a:t>British passed the Royal Proclamation of 1763 So that the Native American’s could have all the land between the Allegheny Mountains and the Mississippi River.</a:t>
            </a:r>
            <a:endParaRPr b="0" lang="en-US" sz="2200" spc="-1" strike="noStrike">
              <a:solidFill>
                <a:srgbClr val="000000"/>
              </a:solidFill>
              <a:latin typeface="Arial"/>
            </a:endParaRPr>
          </a:p>
          <a:p>
            <a:pPr marL="267480" indent="-267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Caslon Pro SmBd"/>
              </a:rPr>
              <a:t>As a result of the war, many English colonists no longer felt they needed the protection of the British against the French, and they became more independent from Britain. This was one factor leading up to the American Revolution.</a:t>
            </a:r>
            <a:endParaRPr b="0" lang="en-US" sz="2200" spc="-1" strike="noStrike">
              <a:solidFill>
                <a:srgbClr val="000000"/>
              </a:solidFill>
              <a:latin typeface="Arial"/>
            </a:endParaRPr>
          </a:p>
          <a:p>
            <a:pPr marL="267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7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7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2:31:04Z</dcterms:created>
  <dc:creator>Yarmouth Schools</dc:creator>
  <dc:description/>
  <dc:language>en-US</dc:language>
  <cp:lastModifiedBy>YHS Teacher</cp:lastModifiedBy>
  <dcterms:modified xsi:type="dcterms:W3CDTF">2009-06-15T14:51:15Z</dcterms:modified>
  <cp:revision>6</cp:revision>
  <dc:subject/>
  <dc:title>Challenges &amp; Successes Upon Arriving in America</dc:title>
</cp:coreProperties>
</file>